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226-D040-4CDB-8C92-0114BE1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753-0BDB-4080-823D-B16DC1E6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F4B-FF07-46CB-8050-E21738F3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3D9-38EB-47E4-B420-17881233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8DD-6E36-4065-AA62-BCC8C89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A30-8260-4815-A04F-E0621ED0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66C-4D89-468E-901A-1BC720A7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DA7-3BFF-4541-BC93-740D090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F3F-CF01-411B-8033-F59DEE2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368-A9FA-402F-B225-B62FCA4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A28-4D27-423A-B4BF-574B305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F11-D184-4BA0-AF06-C2FCA2C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3B3-27F8-444B-B741-A221B9F90A1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99"/>
                </a:solidFill>
                <a:latin typeface="Garamond"/>
              </a:rPr>
              <a:t>NORVÉGIA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Király Erzséb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Garamond"/>
              </a:rPr>
              <a:t>2006. május 4</a:t>
            </a: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2708280"/>
            <a:ext cx="1905120" cy="14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Általános informáci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Elhelyezk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Norvég Királyság, fővárosa O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Hivatalos nyelv: norvég, bokmal (dán és své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Valutája: korona, 1 korona kb. 3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Vízum nem szük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Jelentős vízi- és légi forg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5 nemzetközi repülő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89 135km közútból 437 km autópál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Gazda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Legfőbb szerep a tenger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Halászat, tengeri hajóz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Vízerőmű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Kőolaj és földgáz ex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99"/>
                </a:solidFill>
                <a:latin typeface="Garamond"/>
              </a:rPr>
              <a:t>A világ legdrágább városa Oslo</a:t>
            </a:r>
            <a:r>
              <a:rPr b="0" lang="en-US" sz="3000" spc="-1" strike="noStrike">
                <a:solidFill>
                  <a:srgbClr val="ccff99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51280" y="1600200"/>
            <a:ext cx="483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Tur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708440"/>
        </p:xfrm>
        <a:graphic>
          <a:graphicData uri="http://schemas.openxmlformats.org/drawingml/2006/table">
            <a:tbl>
              <a:tblPr/>
              <a:tblGrid>
                <a:gridCol w="1901880"/>
                <a:gridCol w="1054080"/>
                <a:gridCol w="1055520"/>
                <a:gridCol w="1054080"/>
                <a:gridCol w="1054080"/>
                <a:gridCol w="1055880"/>
                <a:gridCol w="1054080"/>
              </a:tblGrid>
              <a:tr h="809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Szolgáltató ipar ágaza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Vállalkozások szá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Alkalmazottak szá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Forgalom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(millió NO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Szállo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6 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3 0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4 4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4 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Kemping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 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 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4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Étter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6 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6 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6 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4 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9 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9 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Bá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 5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 7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9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Büfék, étkezd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 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7 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6 7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 4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 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0 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0 0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85 1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78 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0 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41 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Tur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Engedélyezett vadkemping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Luxus óceánjárók és lakóbusz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Nemzetközi szállodaláncok Oslóban (pl. Radison Sas, Best Western Hot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Idegenforgalom nyárra koncentrálód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Átlagos tartózkodási idő 1-2 hét (szállodá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99"/>
                </a:solidFill>
                <a:latin typeface="Garamond"/>
              </a:rPr>
              <a:t>fő küldőpiacok: Dánia, Svédo., UK, Németo.,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ccff99"/>
                </a:solidFill>
                <a:latin typeface="Garamond"/>
              </a:rPr>
              <a:t>Küldőpiac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341360"/>
          <a:ext cx="8229600" cy="5135760"/>
        </p:xfrm>
        <a:graphic>
          <a:graphicData uri="http://schemas.openxmlformats.org/drawingml/2006/table">
            <a:tbl>
              <a:tblPr/>
              <a:tblGrid>
                <a:gridCol w="1139760"/>
                <a:gridCol w="3803760"/>
                <a:gridCol w="3286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Küldőország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F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Dá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369 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Svédorsz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62 0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Ang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32 8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Németorsz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99 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32 0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Magyar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7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Auszt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2 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Szlovák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5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Csehorsz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99"/>
                          </a:solidFill>
                          <a:latin typeface="Garamond"/>
                          <a:ea typeface="Times New Roman"/>
                        </a:rPr>
                        <a:t>1 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Garamond"/>
              </a:rPr>
              <a:t>Motivációs cé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Városlátogatás -Oslo, Bergen, Tromso, Narv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Természeti értékek –kiemelt szerep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ff99"/>
                </a:solidFill>
                <a:latin typeface="Garamond"/>
              </a:rPr>
              <a:t>Sarki fény, éjféli nap és nappali söté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125360"/>
            <a:ext cx="40384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9:33:42Z</dcterms:created>
  <dc:creator>Kiraly</dc:creator>
  <dc:description/>
  <dc:language>en-US</dc:language>
  <cp:lastModifiedBy>Kiraly</cp:lastModifiedBy>
  <dcterms:modified xsi:type="dcterms:W3CDTF">2006-05-12T09:43:58Z</dcterms:modified>
  <cp:revision>6</cp:revision>
  <dc:subject/>
  <dc:title>NORVÉGIA</dc:title>
</cp:coreProperties>
</file>